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22.wmf" ContentType="image/x-wmf"/>
  <Override PartName="/ppt/media/image19.png" ContentType="image/png"/>
  <Override PartName="/ppt/media/image20.jpeg" ContentType="image/jpeg"/>
  <Override PartName="/ppt/media/image21.png" ContentType="image/png"/>
  <Override PartName="/ppt/media/image6.jpeg" ContentType="image/jpeg"/>
  <Override PartName="/ppt/media/image5.wmf" ContentType="image/x-wmf"/>
  <Override PartName="/ppt/media/image7.wmf" ContentType="image/x-wmf"/>
  <Override PartName="/ppt/media/image12.wmf" ContentType="image/x-wmf"/>
  <Override PartName="/ppt/media/image9.jpeg" ContentType="image/jpeg"/>
  <Override PartName="/ppt/media/image11.wmf" ContentType="image/x-wmf"/>
  <Override PartName="/ppt/media/image17.jpeg" ContentType="image/jpeg"/>
  <Override PartName="/ppt/media/image13.wmf" ContentType="image/x-wmf"/>
  <Override PartName="/ppt/media/image8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1.jpeg" ContentType="image/jpeg"/>
  <Override PartName="/ppt/media/image15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35.png" ContentType="image/png"/>
  <Override PartName="/ppt/media/image28.wmf" ContentType="image/x-wmf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10.jpeg" ContentType="image/jpeg"/>
  <Override PartName="/ppt/media/image14.png" ContentType="image/png"/>
  <Override PartName="/ppt/media/image1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DE26B-C34D-4ABD-9B57-8D42EF35FA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B1FCB-11E8-4593-AE26-1B28B8ABF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97F73-1A38-4126-8FDB-C57F00F482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B6131-EEF5-4998-B800-BB50F5FDC9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AEF00-605E-4E51-9C74-92200DC52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77B1E-2721-4435-BBC9-BB73449C9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4D778-4856-4C7A-93D2-566DA3D90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B0916-AC87-474C-A43E-7892A8710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92A76-F4FA-4999-B13C-220AD9D7FE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AA382-CD10-4523-86F8-1392D9C05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2C7BB-CB95-43AB-9960-90811D6A9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1835F-0F57-4F9A-B22B-929E127E1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8FAD6-EEEF-4955-BD98-660D613B5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7AC10-6434-412A-B756-B470BE7CC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C3007-D6BA-4540-9537-306F0C36F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1D095-0EEC-4874-8D17-18D07C30D8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21515-F2CD-4392-B2A8-1ADCE225C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A86CF-A52B-4F47-BB70-1DD87FCA1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ACDA1-D431-41D9-AA1F-DD8719508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E62A9-9FFD-41C0-AA7E-EF88E78EA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2FF50-AB3B-4BB7-B254-9C3617A423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177C9-4FCE-46FA-904F-81735E868F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51720-57D3-4851-8506-CE5955B5FC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B050B-6C67-4DD2-AC4E-FBC9CD8980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0429-E6FE-4078-96DC-640C524AF75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91FD-36EC-423F-9F33-CA2D26CA7CE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3976-2A67-4386-B035-6CF7DEDD9A6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CB1D-E650-4C40-8F02-66F9AADDAD8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C451-E3EE-4832-A13E-FF5B4262AB9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8B50-27D4-4F55-8350-712474E80E4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1272-3096-4058-B097-E0B4288D01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EA98D-A539-42A7-8D19-A7F6D4C2E6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B5C5-FD24-4F07-B596-F24B1FE998D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7E1A-4AE7-4BF5-85E2-E9E11AE36E0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74A8-A34C-4338-A415-F5FEC2D98B4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298D-4602-417B-A658-BD7E82910E7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A61F-CA43-4013-A1EE-3AE0088A34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EF8C3-8399-43DE-AFEC-5B53542697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A0DE3-FA88-4027-B613-43F06B53BB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52161-DE7F-42D3-9355-5AE71B629B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F9BBA-527B-46EC-8B40-D7AA7369FA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FBC13-0675-45B0-89CC-4E52828107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FBD9A-B1A7-4747-B7C9-4F3049A97D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035C7-294F-46E0-97C6-E176BD9E3D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74F06-6C05-412C-9F3B-D8AC418143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697D9-17C3-4FAF-84D9-E26DD15F51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Purchasing and Inven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6E48-A827-417B-AB26-85910DA9344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How to Implement 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3048120"/>
            <a:ext cx="3124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29400" y="2286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mum stock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25780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s and 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434340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 for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ing, s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2057400"/>
            <a:ext cx="2666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tai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790FB-19E7-4E71-9B1E-263CDC24D29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alyze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analysis of supply and reagent needs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sting all tests in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ing all supplies needed for each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available information to estimate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45875-4CBA-4D2B-89D5-D4876982D8E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nalysis of Needs: Information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42880" y="1352160"/>
            <a:ext cx="8217000" cy="4578480"/>
            <a:chOff x="542880" y="1352160"/>
            <a:chExt cx="8217000" cy="4578480"/>
          </a:xfrm>
        </p:grpSpPr>
        <p:sp>
          <p:nvSpPr>
            <p:cNvPr id="279" name="_s198691"/>
            <p:cNvSpPr/>
            <p:nvPr/>
          </p:nvSpPr>
          <p:spPr>
            <a:xfrm flipH="1" flipV="1">
              <a:off x="2615400" y="34369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98685"/>
            <p:cNvSpPr/>
            <p:nvPr/>
          </p:nvSpPr>
          <p:spPr>
            <a:xfrm>
              <a:off x="542880" y="2630880"/>
              <a:ext cx="213120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orage spac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198690"/>
            <p:cNvSpPr/>
            <p:nvPr/>
          </p:nvSpPr>
          <p:spPr>
            <a:xfrm flipH="1">
              <a:off x="3392640" y="43128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198672"/>
            <p:cNvSpPr/>
            <p:nvPr/>
          </p:nvSpPr>
          <p:spPr>
            <a:xfrm>
              <a:off x="1705320" y="4698360"/>
              <a:ext cx="2131200" cy="1232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der lead time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livery time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198689"/>
            <p:cNvSpPr/>
            <p:nvPr/>
          </p:nvSpPr>
          <p:spPr>
            <a:xfrm>
              <a:off x="5271840" y="4312800"/>
              <a:ext cx="634680" cy="5022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98670"/>
            <p:cNvSpPr/>
            <p:nvPr/>
          </p:nvSpPr>
          <p:spPr>
            <a:xfrm>
              <a:off x="5465520" y="4698360"/>
              <a:ext cx="2131200" cy="1232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ority Level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98688"/>
            <p:cNvSpPr/>
            <p:nvPr/>
          </p:nvSpPr>
          <p:spPr>
            <a:xfrm flipV="1">
              <a:off x="5657040" y="3434400"/>
              <a:ext cx="1023120" cy="192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98667"/>
            <p:cNvSpPr/>
            <p:nvPr/>
          </p:nvSpPr>
          <p:spPr>
            <a:xfrm>
              <a:off x="6628680" y="2630880"/>
              <a:ext cx="21312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sage/mon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98687"/>
            <p:cNvSpPr/>
            <p:nvPr/>
          </p:nvSpPr>
          <p:spPr>
            <a:xfrm flipV="1">
              <a:off x="4647600" y="2581920"/>
              <a:ext cx="0" cy="621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98665"/>
            <p:cNvSpPr/>
            <p:nvPr/>
          </p:nvSpPr>
          <p:spPr>
            <a:xfrm>
              <a:off x="3583800" y="1352160"/>
              <a:ext cx="213120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nit of count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98662"/>
            <p:cNvSpPr/>
            <p:nvPr/>
          </p:nvSpPr>
          <p:spPr>
            <a:xfrm>
              <a:off x="3583800" y="3203640"/>
              <a:ext cx="213120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br>
                <a:rPr sz="3000"/>
              </a:b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C9436-1FEE-4C14-B04B-DB0C80F67B9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04920" y="533520"/>
            <a:ext cx="6019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Quantif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1905120"/>
            <a:ext cx="7848720" cy="33699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Quantificatio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is a process for calculating how much is required of any particular item for a given period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96AD8-2834-441E-953A-20A9A6BA34A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Wh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part of annual health car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implementing a new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preparation for a potential or newly identified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BC253-13E4-4AB8-AF04-535C62EF37B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H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umption-based meth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bidity-based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32D34-3C6B-45AA-9616-E3FBBFDD784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Consumption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ed on the actual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supplies actual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stage–expired or spoiled su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lies out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ck for mo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n 15 d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uring any ti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191120" y="3581280"/>
          <a:ext cx="4267080" cy="28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81280"/>
                    <a:ext cx="4267080" cy="28609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1BB9A-96A4-4CD8-BA5C-A12B91FA952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Morbidity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the actual number of e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ulatio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ease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cy of morbidit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atment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486400" y="2209680"/>
          <a:ext cx="3429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209680"/>
                    <a:ext cx="3429000" cy="403884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21531-F1E3-4E37-94EB-5B138D92345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ventory Control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t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 or fail acceptanc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laced in service or dis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useful to ke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in stock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105520" y="4038480"/>
            <a:ext cx="2361960" cy="23814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 rot="2522400">
            <a:off x="6997320" y="5011560"/>
            <a:ext cx="1600200" cy="14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ADD42-CC71-449A-A38E-15942414BB2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tock Log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ame and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rece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exp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mum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ock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ther in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elf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3B1E6-298F-4C75-8F0E-E3E3A622264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steps required to implement an inventory control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factors to consider in procurement of supp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monitoring plan for the inventor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documentation related to purchasing and inven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B3C14-9A4C-448C-91FA-72048602487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spect new orders at time of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y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date each item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expiration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 new shipment behi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isting sh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or update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7913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80ED8-7D7B-4780-93B3-7774BDFE2D7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rage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ore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k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ll-ventil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direct sunl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, sturdy shel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ems within 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019920" y="3962520"/>
            <a:ext cx="213336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D9F06-85CE-46E7-A35A-FBD7E48FD5E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helv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85800" y="5334120"/>
            <a:ext cx="297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llow 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4343400"/>
            <a:ext cx="213372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2E98A-82FB-4105-B31A-0DD94B69FB5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helf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voids “losing” a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ve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ystemizes storag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umber cold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 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d freezer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bel sh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0" t="0" r="0" b="25408"/>
          <a:stretch/>
        </p:blipFill>
        <p:spPr>
          <a:xfrm>
            <a:off x="3429000" y="4267080"/>
            <a:ext cx="3703680" cy="19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D584C-D596-42DC-B2C8-D7AC9CD3BBB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clearly visible dating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exp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67931-1780-4805-BBA7-F809EB1D1CC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tinuous Monitoring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13716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43600" y="3276720"/>
            <a:ext cx="2743200" cy="1447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4876920"/>
            <a:ext cx="2666880" cy="1523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3200400"/>
            <a:ext cx="221004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43200" y="137160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8120" y="5257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uct weekly physical cou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3429000"/>
            <a:ext cx="2057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3352680"/>
            <a:ext cx="2819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ain 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2438280"/>
            <a:ext cx="3733920" cy="2895840"/>
          </a:xfrm>
          <a:custGeom>
            <a:avLst/>
            <a:gdLst>
              <a:gd name="textAreaLeft" fmla="*/ 933480 w 3733920"/>
              <a:gd name="textAreaRight" fmla="*/ 2800440 w 3733920"/>
              <a:gd name="textAreaTop" fmla="*/ 723960 h 2895840"/>
              <a:gd name="textAreaBottom" fmla="*/ 2171880 h 28958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3352680"/>
            <a:ext cx="243828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ventor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D5368-591C-4084-BF0E-891F706F019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Computerized Stoc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ct current state of stock, product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expiration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tistics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planning purchase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possibl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kes inventory tasks eas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rawbac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on-site computer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quires train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638680" y="3505320"/>
            <a:ext cx="2895840" cy="26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CA84D-B7A8-4BAF-8A34-FB0C7603420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ll-managed laboratory will have a system for inventory maintenance and purch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will require planning and monitoring: analyzing needs, developing forms and procedures, and maintaining an inventory. The laboratory will maintain an inventory system for all reagents and supplies used in the labora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6DC89-815F-4B7A-8877-983E9B4D890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ing inventory results i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d laboratory efficiency and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ance that patient or clinical needs are m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s available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1BCA7-CF69-440E-876F-46CACA1E082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866920" y="762120"/>
            <a:ext cx="30481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762120"/>
            <a:ext cx="5181480" cy="5409720"/>
            <a:chOff x="685800" y="762120"/>
            <a:chExt cx="5181480" cy="5409720"/>
          </a:xfrm>
        </p:grpSpPr>
        <p:sp>
          <p:nvSpPr>
            <p:cNvPr id="363" name="AutoShape 4"/>
            <p:cNvSpPr/>
            <p:nvPr/>
          </p:nvSpPr>
          <p:spPr>
            <a:xfrm>
              <a:off x="68580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9"/>
            <p:cNvSpPr/>
            <p:nvPr/>
          </p:nvSpPr>
          <p:spPr>
            <a:xfrm>
              <a:off x="293040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2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3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6"/>
            <p:cNvSpPr/>
            <p:nvPr/>
          </p:nvSpPr>
          <p:spPr>
            <a:xfrm>
              <a:off x="156528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>
              <a:off x="155412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4"/>
            <p:cNvSpPr/>
            <p:nvPr/>
          </p:nvSpPr>
          <p:spPr>
            <a:xfrm flipH="1" flipV="1">
              <a:off x="333972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5"/>
            <p:cNvSpPr/>
            <p:nvPr/>
          </p:nvSpPr>
          <p:spPr>
            <a:xfrm flipV="1">
              <a:off x="307800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487656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7"/>
            <p:cNvSpPr/>
            <p:nvPr/>
          </p:nvSpPr>
          <p:spPr>
            <a:xfrm>
              <a:off x="327636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>
              <a:off x="160020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7"/>
            <p:cNvSpPr/>
            <p:nvPr/>
          </p:nvSpPr>
          <p:spPr>
            <a:xfrm flipH="1">
              <a:off x="129492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65"/>
            <p:cNvGrpSpPr/>
            <p:nvPr/>
          </p:nvGrpSpPr>
          <p:grpSpPr>
            <a:xfrm>
              <a:off x="990360" y="854640"/>
              <a:ext cx="1261800" cy="1189800"/>
              <a:chOff x="990360" y="854640"/>
              <a:chExt cx="1261800" cy="1189800"/>
            </a:xfrm>
          </p:grpSpPr>
          <p:grpSp>
            <p:nvGrpSpPr>
              <p:cNvPr id="378" name="Group 66"/>
              <p:cNvGrpSpPr/>
              <p:nvPr/>
            </p:nvGrpSpPr>
            <p:grpSpPr>
              <a:xfrm>
                <a:off x="990360" y="854640"/>
                <a:ext cx="1239120" cy="1189800"/>
                <a:chOff x="990360" y="854640"/>
                <a:chExt cx="1239120" cy="1189800"/>
              </a:xfrm>
            </p:grpSpPr>
            <p:grpSp>
              <p:nvGrpSpPr>
                <p:cNvPr id="379" name="Group 67"/>
                <p:cNvGrpSpPr/>
                <p:nvPr/>
              </p:nvGrpSpPr>
              <p:grpSpPr>
                <a:xfrm>
                  <a:off x="1041840" y="854640"/>
                  <a:ext cx="1152360" cy="1189800"/>
                  <a:chOff x="1041840" y="854640"/>
                  <a:chExt cx="1152360" cy="1189800"/>
                </a:xfrm>
              </p:grpSpPr>
              <p:sp>
                <p:nvSpPr>
                  <p:cNvPr id="380" name="Freeform 68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Freeform 69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2" name="Text Box 70"/>
                <p:cNvSpPr/>
                <p:nvPr/>
              </p:nvSpPr>
              <p:spPr>
                <a:xfrm>
                  <a:off x="99036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Text Box 71"/>
              <p:cNvSpPr/>
              <p:nvPr/>
            </p:nvSpPr>
            <p:spPr>
              <a:xfrm>
                <a:off x="101304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72"/>
            <p:cNvGrpSpPr/>
            <p:nvPr/>
          </p:nvGrpSpPr>
          <p:grpSpPr>
            <a:xfrm>
              <a:off x="2646360" y="854640"/>
              <a:ext cx="1239840" cy="1189800"/>
              <a:chOff x="2646360" y="854640"/>
              <a:chExt cx="1239840" cy="1189800"/>
            </a:xfrm>
          </p:grpSpPr>
          <p:sp>
            <p:nvSpPr>
              <p:cNvPr id="385" name="Freeform 73"/>
              <p:cNvSpPr/>
              <p:nvPr/>
            </p:nvSpPr>
            <p:spPr>
              <a:xfrm>
                <a:off x="268704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74"/>
              <p:cNvSpPr/>
              <p:nvPr/>
            </p:nvSpPr>
            <p:spPr>
              <a:xfrm>
                <a:off x="264636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75"/>
            <p:cNvGrpSpPr/>
            <p:nvPr/>
          </p:nvGrpSpPr>
          <p:grpSpPr>
            <a:xfrm>
              <a:off x="4246560" y="854640"/>
              <a:ext cx="1239840" cy="1189800"/>
              <a:chOff x="4246560" y="854640"/>
              <a:chExt cx="1239840" cy="1189800"/>
            </a:xfrm>
          </p:grpSpPr>
          <p:grpSp>
            <p:nvGrpSpPr>
              <p:cNvPr id="388" name="Group 76"/>
              <p:cNvGrpSpPr/>
              <p:nvPr/>
            </p:nvGrpSpPr>
            <p:grpSpPr>
              <a:xfrm>
                <a:off x="4291920" y="854640"/>
                <a:ext cx="1153080" cy="1189800"/>
                <a:chOff x="4291920" y="854640"/>
                <a:chExt cx="1153080" cy="1189800"/>
              </a:xfrm>
            </p:grpSpPr>
            <p:sp>
              <p:nvSpPr>
                <p:cNvPr id="389" name="Freeform 77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78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Text Box 79"/>
              <p:cNvSpPr/>
              <p:nvPr/>
            </p:nvSpPr>
            <p:spPr>
              <a:xfrm>
                <a:off x="424656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Line 27"/>
            <p:cNvSpPr/>
            <p:nvPr/>
          </p:nvSpPr>
          <p:spPr>
            <a:xfrm flipH="1">
              <a:off x="137124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990360" y="2194200"/>
              <a:ext cx="1241280" cy="1189440"/>
              <a:chOff x="990360" y="2194200"/>
              <a:chExt cx="1241280" cy="1189440"/>
            </a:xfrm>
          </p:grpSpPr>
          <p:sp>
            <p:nvSpPr>
              <p:cNvPr id="394" name="Freeform 46"/>
              <p:cNvSpPr/>
              <p:nvPr/>
            </p:nvSpPr>
            <p:spPr>
              <a:xfrm>
                <a:off x="99504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47"/>
              <p:cNvSpPr/>
              <p:nvPr/>
            </p:nvSpPr>
            <p:spPr>
              <a:xfrm>
                <a:off x="99036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Freeform 31"/>
            <p:cNvSpPr/>
            <p:nvPr/>
          </p:nvSpPr>
          <p:spPr>
            <a:xfrm>
              <a:off x="269532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3"/>
            <p:cNvSpPr/>
            <p:nvPr/>
          </p:nvSpPr>
          <p:spPr>
            <a:xfrm>
              <a:off x="273528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4190760" y="2212200"/>
              <a:ext cx="1336680" cy="1189440"/>
              <a:chOff x="4190760" y="2212200"/>
              <a:chExt cx="1336680" cy="1189440"/>
            </a:xfrm>
          </p:grpSpPr>
          <p:sp>
            <p:nvSpPr>
              <p:cNvPr id="399" name="Freeform 48"/>
              <p:cNvSpPr/>
              <p:nvPr/>
            </p:nvSpPr>
            <p:spPr>
              <a:xfrm>
                <a:off x="426708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55"/>
              <p:cNvSpPr/>
              <p:nvPr/>
            </p:nvSpPr>
            <p:spPr>
              <a:xfrm>
                <a:off x="419076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Line 27"/>
            <p:cNvSpPr/>
            <p:nvPr/>
          </p:nvSpPr>
          <p:spPr>
            <a:xfrm flipH="1">
              <a:off x="129492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990360" y="3553200"/>
              <a:ext cx="1239840" cy="1190880"/>
              <a:chOff x="990360" y="3553200"/>
              <a:chExt cx="1239840" cy="1190880"/>
            </a:xfrm>
          </p:grpSpPr>
          <p:sp>
            <p:nvSpPr>
              <p:cNvPr id="403" name="Freeform 81"/>
              <p:cNvSpPr/>
              <p:nvPr/>
            </p:nvSpPr>
            <p:spPr>
              <a:xfrm>
                <a:off x="102240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82"/>
              <p:cNvSpPr/>
              <p:nvPr/>
            </p:nvSpPr>
            <p:spPr>
              <a:xfrm>
                <a:off x="99036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2646360" y="3553200"/>
              <a:ext cx="1239840" cy="1190880"/>
              <a:chOff x="2646360" y="3553200"/>
              <a:chExt cx="1239840" cy="1190880"/>
            </a:xfrm>
          </p:grpSpPr>
          <p:sp>
            <p:nvSpPr>
              <p:cNvPr id="406" name="Freeform 30"/>
              <p:cNvSpPr/>
              <p:nvPr/>
            </p:nvSpPr>
            <p:spPr>
              <a:xfrm>
                <a:off x="267336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4"/>
              <p:cNvSpPr/>
              <p:nvPr/>
            </p:nvSpPr>
            <p:spPr>
              <a:xfrm>
                <a:off x="264636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Freeform 50"/>
            <p:cNvSpPr/>
            <p:nvPr/>
          </p:nvSpPr>
          <p:spPr>
            <a:xfrm>
              <a:off x="426708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51"/>
            <p:cNvSpPr/>
            <p:nvPr/>
          </p:nvSpPr>
          <p:spPr>
            <a:xfrm>
              <a:off x="424656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 flipH="1">
              <a:off x="137124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914400" y="4902120"/>
              <a:ext cx="1420560" cy="1189440"/>
              <a:chOff x="914400" y="4902120"/>
              <a:chExt cx="1420560" cy="1189440"/>
            </a:xfrm>
          </p:grpSpPr>
          <p:sp>
            <p:nvSpPr>
              <p:cNvPr id="412" name="Freeform 57"/>
              <p:cNvSpPr/>
              <p:nvPr/>
            </p:nvSpPr>
            <p:spPr>
              <a:xfrm>
                <a:off x="106344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58"/>
              <p:cNvSpPr/>
              <p:nvPr/>
            </p:nvSpPr>
            <p:spPr>
              <a:xfrm>
                <a:off x="91440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646360" y="4834080"/>
              <a:ext cx="1239840" cy="1189800"/>
              <a:chOff x="2646360" y="4834080"/>
              <a:chExt cx="1239840" cy="1189800"/>
            </a:xfrm>
          </p:grpSpPr>
          <p:sp>
            <p:nvSpPr>
              <p:cNvPr id="415" name="Freeform 34"/>
              <p:cNvSpPr/>
              <p:nvPr/>
            </p:nvSpPr>
            <p:spPr>
              <a:xfrm>
                <a:off x="269532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61"/>
              <p:cNvSpPr/>
              <p:nvPr/>
            </p:nvSpPr>
            <p:spPr>
              <a:xfrm>
                <a:off x="264636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4267080" y="4902120"/>
              <a:ext cx="1239840" cy="1189440"/>
              <a:chOff x="4267080" y="4902120"/>
              <a:chExt cx="1239840" cy="1189440"/>
            </a:xfrm>
          </p:grpSpPr>
          <p:sp>
            <p:nvSpPr>
              <p:cNvPr id="418" name="Freeform 63"/>
              <p:cNvSpPr/>
              <p:nvPr/>
            </p:nvSpPr>
            <p:spPr>
              <a:xfrm>
                <a:off x="428616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64"/>
              <p:cNvSpPr/>
              <p:nvPr/>
            </p:nvSpPr>
            <p:spPr>
              <a:xfrm>
                <a:off x="426708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F480E-BC63-4EE3-9ADA-7B475694F80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r laboratory is asked to gear up for a potential flu epidemi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urchasing and inventory factors do you need to consider in planning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ro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roblems might you encounter in planning and implement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657FB-547A-4CE4-904E-A60DA4D333A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5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50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51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2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7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60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61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6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71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5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8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4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7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90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15288-7C8B-489A-B28D-EF3E7288CAE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Benefits of an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Inventory Manageme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33526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lies and reagents always 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200400"/>
            <a:ext cx="2666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wast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y within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main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98BA8-704B-4ED2-A3D8-454F84704A3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Inventory Management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alance between stock availabilit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d expiration dates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fe-span of laborator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agents va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IA reagents: 3 to 8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 kits: 4 to 1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sera: 1 to 4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biotic disks: 2 to 3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ady-to-use culture media: 1 to 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hydrated culture media: 3 to 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3886200" cy="3273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257800" y="3124080"/>
            <a:ext cx="8380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2895480"/>
            <a:ext cx="914400" cy="916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ir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13C90-E326-4FB6-B3AA-4283BBDB497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Components for Purchasing and Inven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2362320"/>
            <a:ext cx="175248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3809880"/>
            <a:ext cx="18288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og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iry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tate 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572000"/>
            <a:ext cx="205740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Labor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4267080"/>
            <a:ext cx="1066680" cy="129564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105520"/>
            <a:ext cx="129528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0880" y="1828800"/>
            <a:ext cx="3504600" cy="2458080"/>
            <a:chOff x="380880" y="1828800"/>
            <a:chExt cx="3504600" cy="2458080"/>
          </a:xfrm>
        </p:grpSpPr>
        <p:cxnSp>
          <p:nvCxnSpPr>
            <p:cNvPr id="216" name="_s180244"/>
            <p:cNvCxnSpPr>
              <a:stCxn id="217" idx="1"/>
              <a:endCxn id="218" idx="2"/>
            </p:cNvCxnSpPr>
            <p:nvPr/>
          </p:nvCxnSpPr>
          <p:spPr>
            <a:xfrm rot="10800000">
              <a:off x="21326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180243"/>
            <p:cNvCxnSpPr>
              <a:stCxn id="220" idx="3"/>
              <a:endCxn id="218" idx="2"/>
            </p:cNvCxnSpPr>
            <p:nvPr/>
          </p:nvCxnSpPr>
          <p:spPr>
            <a:xfrm flipV="1">
              <a:off x="18824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8" name="_s180239"/>
            <p:cNvSpPr/>
            <p:nvPr/>
          </p:nvSpPr>
          <p:spPr>
            <a:xfrm>
              <a:off x="1382040" y="182880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endor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lif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urchas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a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80241"/>
            <p:cNvSpPr/>
            <p:nvPr/>
          </p:nvSpPr>
          <p:spPr>
            <a:xfrm>
              <a:off x="238356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486400" y="5715000"/>
            <a:ext cx="1676520" cy="76212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ost use</a:t>
            </a:r>
            <a:br>
              <a:rPr sz="1800"/>
            </a:b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9720" y="3733920"/>
            <a:ext cx="60948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828440" y="4952880"/>
            <a:ext cx="6094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162920" y="5562720"/>
            <a:ext cx="3808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54864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77320" y="33526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629400" y="3352680"/>
            <a:ext cx="4572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10280" y="1752480"/>
            <a:ext cx="1981440" cy="1683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ssess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5638680" y="411480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81480" y="4572000"/>
            <a:ext cx="1447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981080" y="5562720"/>
            <a:ext cx="45720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C8007-FA36-42DC-9C37-353C918DBCA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 a System to Qualify and Select Vend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criteria for supplies and services to be purch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information from other labora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aluate before purchase and after rece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31ECB-0E7C-461E-AEE9-90C3CAD17D8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chas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ymen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57200" y="1143000"/>
            <a:ext cx="5409720" cy="2941920"/>
            <a:chOff x="457200" y="1143000"/>
            <a:chExt cx="5409720" cy="2941920"/>
          </a:xfrm>
        </p:grpSpPr>
        <p:cxnSp>
          <p:nvCxnSpPr>
            <p:cNvPr id="241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3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Negotiate pr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view 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trac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1219320"/>
            <a:ext cx="4794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Understand governmen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400800" y="47242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638680" y="38862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re reliabl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ility,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E3CA8-C022-4A90-8C82-A4D8F1C571D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33Z</dcterms:modified>
  <cp:revision>109</cp:revision>
  <dc:subject/>
  <dc:title>Slide 1</dc:title>
</cp:coreProperties>
</file>